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7EA-D601-4DA1-A774-A4CC754F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73F-E1FD-426E-9BEC-F24DCDDD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F3D45-336A-4E18-B363-5BC7853F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D493B-F7B6-40E4-BBC1-3515A82A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163BC-2908-4096-B225-2D805B49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A08A4-56F8-4F24-BA5C-7FA1CB3B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B9331-ACEE-410A-A0D7-D8A6F7F7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B5DD7-0F65-48B6-AD97-4E13D23D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242E4-504E-40EC-A15A-6A6C1A6C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69A11-4A4D-474D-9706-DBB15B9B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C0BF7-6142-48E5-B7F9-8365CD49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F4F2E-1C1C-402A-8789-215FDB1F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1400-AB20-4A7C-B409-F239BEB6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DC0FC-0C4D-46E6-AEA9-882A2FCA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C7911-AD89-4617-9409-0DDD34C8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72DE3-4894-48DF-AC6C-943EE4DD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1C1E2-A01D-40CF-AF4E-B7AE49CE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88EE9-7E40-4787-841F-C3D29F59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91EF8-2ECE-4394-A296-3668DC8A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C19C1-0872-44A7-AA83-14405B8C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14F61-31F2-4CE3-8C30-E6F168FA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863EA-242F-45F4-B438-7BB74FFA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BDE44-A458-4C5E-8CDE-7C9E7B20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BC5-1E48-4586-9035-F7546FDC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D3F26-4DA9-4FC1-AA9D-89158B3C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50179-9E89-427D-BFB5-4DC8FE1A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2AEC0-7B79-43A0-97FA-1152B548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BE530-A3DF-4E51-8A1A-06AE8E96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E7C8D-3337-4315-9BC8-6E599BE3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65C92-B43B-4AE5-B23A-D6107CAB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466D0-A791-465D-B66A-8DF7AFDA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797F7-EC03-4132-A779-4B8A815E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95136-799A-45E4-B7CB-E64346E3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1206F-09FA-4E6E-AC6A-F4623556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12E2-2CEB-4B79-AFD2-74EDC4C7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B3CB5-F891-44B5-A26A-51C18BE0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73AA5-D647-4695-8301-A206D275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EE335-FE56-49F4-A4C2-5E7F9E4D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1D508-F5F4-42D1-919C-CAECBA6B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C1113-C777-4487-9A2B-D3C99493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51085-AEF1-4F9E-8807-EB76DD72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96376-D141-456A-963A-E8A1EEAC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4786E-7418-42B3-AABC-20F80CA4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A891D-F9C1-4E79-81DE-0323CDC6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8D43F-871F-42E6-A246-EB054477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BF8A-7AF8-462A-9C11-3373B029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D2674-16F2-4E5B-B014-2F5589BA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D1AC1-7896-4A4C-9B81-1137BE81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E00E6-289C-4AF9-99CC-7CCD24CA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C4677-5495-4E61-8359-FED05A15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87828-ACE3-4789-BE30-040EFEAD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CEAB3-48DC-451F-BAD4-7D3EF9F4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1DD8F5-0DEC-49FC-9A79-86FD0E7C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2AF84-68B3-42A8-A6F1-7AFAA149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CA0070-6BB2-4C62-BED4-298CE909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010C40-0881-4523-92C7-291033EA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DCF5-048A-42E6-AB2B-B7A5400A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7578B-8BF5-47F2-819A-84C469EA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6A6E35-7AD7-431F-9DC8-2854CA38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1D332-284E-4FE8-891F-4CE92509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0DBADC-5256-4F63-B62C-79917397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BC8E6-8A4A-4444-9105-E8D8FEFE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9FF40B-7ABE-45F0-9DCE-0D92F877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DF0206-8961-4CF4-A6A6-F8269196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098B48-2277-4525-BD9C-5A436850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8F6BE2-847B-4831-A07F-6EC715BF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84ECB3-2834-4212-83CF-24A0030B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CFF3-1C36-4561-900B-B157F5B8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783ADD-7750-4F5C-8D6E-CF8B6463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9968E1-C1BF-4149-968D-00438808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D916E7-B908-4C84-BD4A-D2248B83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65D39A-A962-424A-B8C1-F0C82C8E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3EAA57-1509-4116-BCB5-09F85398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9AB2B9-B3E7-4F6C-ADC0-EAF23E6B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2EA716-5B53-4684-BA61-FFD2B2BB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A5819-9F24-498D-9A7B-2D7E5B92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902478-9572-4198-A89C-5F27BAF7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9A2032-3FCC-4A32-8882-B9634CF1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99ED-AA66-4C70-948E-2FE079D9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E9364B-C004-4A27-A402-1A707283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6D9F5A-0A27-4585-98B9-E58B1143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94994E-48A6-4710-B242-2ACD4CAE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B583A8-67C7-4B41-A8A5-C1A98DB8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2EA905-1139-4F54-96FD-C2C666A6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5F687D-02A3-4593-9556-F03AACFA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F86BE5-16E9-43BA-A7A5-128AB3A8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416523-5C6B-43A2-9D5A-E6BB88B1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192756-5950-4554-96F3-EFEF139C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126CA4-DCAE-4346-A045-918CF5E6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D382-65AC-4943-9A51-B9A16C35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5BEB80-78FA-44C4-9B97-0D1746D3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BB47E3-6962-47D2-A646-C1C7672B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92C2C6-6D5C-42A1-99D3-B42B28C4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362E90-F827-42B8-8DA8-C5184254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C21491-91E4-454A-ADF3-9C51A9F4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59E212-DC41-490F-BF90-4D2A45DA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3C8172-4D00-4C22-92FD-51ABDF47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26F4B1-3594-4A3C-A09F-046D3F84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8741EA-6D7A-4FB2-A4D8-CEE3ADEE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1C6DA7-40F1-4E26-8F19-82257A13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92EA-543D-4B04-884F-6F7B747A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C721C1-B97B-4935-8178-BF26942B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E2F4D3-2A23-4687-A555-C0B89DF2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0E3554-DEBC-4F07-90C5-869EFFB1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81F1BF-4CAF-47B6-B5E5-03D9AA49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AAE29F-AD84-49D2-ACEA-A3111BDC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1EFD4A-BB62-4F22-99F0-21436A07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86F2A8-F4F1-4874-8601-F1D5D3FC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819863-D842-4644-8D0A-8DAACEA8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675F66-C4D3-45BA-94B1-B609C9A6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276233-D500-4029-98FB-96A4B9A9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ACF-B0B8-4534-9784-1639DDF2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F03D-019E-4E8C-AEE6-1061AF28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3C214C-4BB5-4067-A96C-5B13EA48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D93E3A-4477-43D7-9EEF-E1CA378E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F6D4B2-A6F0-405C-8166-E53E2F3D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9FCFFF-1E5D-4835-800C-A093555C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3C6537-2FFA-4054-B283-26EF1464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62E7C5-D4E1-44D5-99EE-73F1AC16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92C808-DA69-4C5F-9BA8-34891137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5870AF-2A94-46D7-BBC1-D6A3FE94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367B3E-533E-4777-A479-BDC06812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4C7408-1CB7-49AE-A30B-D77833C6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057C-508B-473B-9DC9-8153533E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6D7E5A-9E4D-4993-94A9-12115CD9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00C988-D8B0-45D7-9C96-4504DF32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FEE68A-9B62-4FCC-97B4-4A499EDF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D6682A-A612-4487-AFD8-927FD983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8536F5-F02C-42BF-BD7C-B96DC6AF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2C926B-650E-4638-B16D-9EC0A1CE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5C7E83-FFC8-4541-A05B-91FC1353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BEDB40-CC48-428B-B5CD-728DAC9E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71353F-4E13-42C5-B783-F2760CE4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83889E-4D16-484E-9879-25F5FBAB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5568-3C3C-47C4-B6F3-15300A91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9E5F41-6356-4B8B-9031-0DF82027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31809C-425E-4632-BE12-3541D101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E322E2-BB26-4987-A711-7378193E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9083A4-B742-4C06-B62F-0359689D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AEE58E-C8D3-4B7B-96F0-9D75FC1D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6C619D-6F76-4A47-90B3-27A7DED0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96711F-3702-4FEA-A811-F0265B77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F11B4D-262F-43CD-A868-BF07B666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911A91-BA43-4116-9F9E-3DD8345C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CABBD7-0D60-4AC4-A572-D4B82160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FF40-4003-4F7C-81D0-8847B180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D9A184-7764-469E-AB5D-F1018254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60D230-93A2-4E24-BA49-B5FE6E3D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600EB6-9845-4693-874B-7CAAFE64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5F8A4F-3556-493F-BD7E-741F161E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5DAB39-FA77-4D6E-96CD-A14DAC0D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EB7756-77E0-48E6-8B9A-EDDE9696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4EBD3D-A15D-4AAA-B6F3-206E27F3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A9BA49-B7E7-4EB5-A58B-A0514DA4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0FBD73-312D-4A43-9397-7A09A248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5D3276-D4BB-43DB-916B-97AF18DB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5B09-561B-423A-A9EF-4DD51A65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2BA6BA-2DE7-425B-85F9-C45F9D6D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E41914-A20F-4CF6-AC08-A4033BAD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9FA4E3-74CA-4608-9778-6356E545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E0476D-6D59-4D59-9934-F138AA4B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08A837-9179-4EFB-B0CF-32591F06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C22219-800E-46CF-9CF8-F3424B75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441CEE-2309-49F1-8997-5C02C539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792223-DDE3-4A1C-B0EA-D8CF9319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F604B9-F428-42D9-8D60-B3210B7C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C3C9FC-7D9C-411D-8AB7-FCA7E9C1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85726-6BF7-4734-BFA4-E419EE5A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F3D5FF-69B3-4344-BD3E-46F8FE5D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B33F5D-E5BD-4FCE-864C-A2D4F380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41849D-8361-431E-98A7-7160EA18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4459A8-CD5E-47BB-8B39-C4EA1DBB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F4BAEE-6A53-403B-BEE9-8B47221C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5C5CDA-DCAE-484D-B476-47931619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D60BC6-45FA-4F1E-87DD-B15B5953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E781AF-1DF0-4DA2-8D35-4D6C96C0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D77003-2D74-4E16-AD19-7EDCF8FC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80844F-8781-4A35-9918-1787CBBF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75375-124C-416A-991F-519CD7B4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5EC646-6F65-4D8B-B8A6-31238C2F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3F90E0-639B-401A-A4FD-9B3D32BA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D6F25B-E0FD-4B0A-99E5-7C2B1C8B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25BBD7-8227-40CA-9AD9-BAB5D4C3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774533-B381-449E-8F8C-3D4F5F67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D5CDCC-9A48-4335-B70B-AA7ED399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9770BD-D518-4C8B-A7CE-87C35646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DA9350-0136-4A6F-A665-9A0153A5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20DFB8-2E8A-47F3-B5FB-E2A099DE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244B5F-A501-4C89-B42F-3CCF34A2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093F0-D522-4438-82E7-94C64C73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4F3A1D-8492-4D1D-99AD-95D8905F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74F888-B61F-434D-BD57-3FEAAFA4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5B279E-1D79-4253-A83E-741A1368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EBB4F3-66E0-42DA-B60F-29F29B53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C8E5EE-E1F8-4213-82E6-D3903310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E3CB7E-E0DB-4740-B4BA-C655E6F5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8E0E90-9CBD-4EFD-B436-CED2BA85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F44B02-C7BD-42C9-897F-628549A1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BC319C-4D1F-4A88-B4C4-5C1843ED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855D4E-6FCB-48A2-AA4F-87C45253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785E7-0724-4194-BFB4-76CCA242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9D992F-93DE-4DA3-AB3E-923C2A47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0C5A5B-2B0D-4408-B8F9-B3D2E9C2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C14341-339D-4D38-9985-7B8FCA89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D9E441-4574-4A49-BAB7-5FF5BCB0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C97ED0-96DB-4F5E-89CB-E4F7F029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CF76AF-3E23-4A9A-8D46-9AC9D7A1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DE2218-DC23-4B70-85F5-D46760C8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FB4D76-6828-494A-B8A9-486D9455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879B63-D16E-4407-B36E-0894A019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5EDD98-5517-4BDB-9B3A-FA39B0ED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E9430-3FA0-45E3-808B-3CAD7AB9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00E210-739D-42D2-B566-F27787DD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7E6C8B-20F6-45A3-8D15-B71FADE0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47C4DC-F02E-4F3F-A26E-4F7409ED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6E9BC2-8181-4C7E-A5AA-F2D26633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AAA8BB-B141-4902-A490-4E7353C9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FDFB70-9158-4F20-9256-4528C77F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83B62C-D5FC-45B2-A019-01273295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8B646D-94AB-4AD3-92F4-8D6A22DD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8F1948-A108-4C26-A79A-7D157029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00A888-0303-43DA-9170-9D102C48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261-9CAB-44AA-A860-CA1CE9BA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131FF-4DCC-44C7-8453-3B18BEF0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D6F086-7DEE-42F3-9588-99089655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2D0DC5-D47A-4E22-80A0-857E949A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B5F6DF-A82F-43D9-9239-ECC531FB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C34035-C9EE-4B3C-8B3D-02D25332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AD940C-D066-40C7-9008-62F563A2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B3236D-19DB-4FBA-9EA1-82E19A21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210C1E-6A85-40A0-8129-D3128EE2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C0707F-70A1-4A8C-A9E6-95CC276C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007CFC-2E28-4725-A436-7282A933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B2FBF1-0287-46E4-84BD-43D2083B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BF0C5-941E-4BBC-8F94-C31A4593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893803-78AC-446D-9A24-3980A723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42A5AE-61E7-4DC6-B4DA-EA12427F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42AFAC-7737-4F84-8998-9F30E55C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E42DB-62D4-43EC-84CB-0F5CF27A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BADEC-E4D1-489D-A1F3-1FD0D62C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507F2-4BD0-40DD-A6C4-1AFD0DDD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806A7-1240-4A24-B344-6EC9B514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7F0F1-E7FE-44F2-B415-38F85314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C045C-4CA7-4AE5-A59E-A7DE6352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6C525-D772-41CD-8403-A3237B16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E3996-F5DC-42DA-830B-F0BC7463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9CD-2A30-436D-BAEE-17A77888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65AF6-9948-444F-AB0E-730061DA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E9483-F6EA-422C-9D39-8A47FD10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FCA4F-211B-4E05-A815-E4B91A36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0553F-9E43-4F70-9D56-98781888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4FBC7-390F-42DF-A668-3B4E8A3E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2B8CE-B5C4-4FA3-9F58-014812A2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07610-0F33-4D13-97B9-79CA5CAD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9F865-361B-450C-9806-3AD0E599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4EB88-CC86-4DFF-8983-CB223A88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A29CF-B514-4AC1-88E6-054EBFDB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72D-2EF7-4B1F-A3BA-15520C46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F4F06-E921-4377-BC3F-6547459C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55570-3B12-43E6-95B2-D280C6AA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8E4C7-BDF6-4067-8964-D7CAC102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88900-37A2-46D8-8EFA-037338EB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190B5-0705-4032-9E45-2AE49FEF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59F8B-9622-422A-A6D9-3959DBAE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DB1F8-AACA-4F58-9A91-AD16C287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9D8CF-10E8-414D-94DE-3E40D018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6CDC6-B878-4636-907F-CBC18D65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81DF4-A06C-48FE-8677-12EB50CC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0622-44E2-4E27-AFA0-BE2B2675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A3493-A697-4B46-AFF4-41AC6313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6ABFC-D3F8-4BED-B2F2-474366D8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2EA14-D638-4FA6-973D-816D6E35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BA36D-A83F-4700-A537-5102D4B8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FB73E-E875-4FB5-8F9C-9F871403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C8693-05C3-4D9B-985F-AC992495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7DFC8-C383-4311-BFF7-F39F0C65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F6BD1-C2C3-4EA1-A4E6-3812CED4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8D5CD-7310-4483-A724-DE8654FE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087DA-80F6-47E1-9D29-9CCA9844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8DD1-CBC9-4AF9-96ED-DCE58D38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AE149-E56D-4732-9B38-4798BB1E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B91F7-08E3-4E31-83A8-099CE7D6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90321-71F4-483C-AF63-9C763CD8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BBFE7-33EE-440C-931E-FA78EE31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CF660-616C-44C7-B583-CC87E197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FD2AE-92DD-4D4C-8AF2-D92BAC27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6E994-66AB-462E-B2E5-50142EBB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189A6-2C3D-400C-8D87-403763A5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6C01B-F18C-4505-B1D9-530ECE6C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218A0-3D78-4C65-A487-FBC63A4C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DB8-1580-4389-9D1D-02B6A320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012BE-8F18-489F-A846-4A2E4464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5985B-0722-439A-8713-8D775AC2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607C0-F0CE-4F93-8ED6-857BEDBE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A4D8F-68FB-475D-9956-CA524B4F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3FE1F-16A8-4ADF-9616-4D07658E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85420-1CAF-4837-A8F5-E4ACA119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AB53D-4181-4C19-8A87-FD1CA834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155AD-3481-4FE5-BAAA-FDB3DAB2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AD1D1-7EF4-4B2D-8281-4E499C98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047ED-BAA5-4475-AD4E-03233DD6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ADC-B575-4811-8754-2968B78E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662AE-151B-411B-9ED1-43E91023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84A95-67FE-4EBA-902A-352A45A6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9B050-1170-4ABC-AD68-17F2548C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54541-79DF-4B2F-B26D-D3BE3138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FF9F0-0A8E-4483-94E6-E32D5F92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9F5D0-A343-4A9F-BF49-92535967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42A7B-D30C-43F8-9C53-EAB8C36F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3AFFC-8278-4040-A648-379BF11C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8B0D2-D976-4AEA-B51F-9E272BB9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80DC3-CDA3-4E9D-A407-849EACC3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0B33-37A7-4A63-BC83-A2AA3ECEC4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E453-50CB-4748-AC18-55D7861322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A346-F53F-45E3-8324-5C4D67CB8C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D07B-8ADE-4318-BF1B-3E9EDD534C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0AB9-C695-49DA-A64E-19FC2D7173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4AA4-E6AA-45DD-BF16-5E8E2E8BE0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C592-595C-4AAA-BEC2-6743663C7D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A9F6-2258-4306-B232-E644281706A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4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4957-C219-4477-A6DF-4036232D10E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5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5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148D-7D8F-4D00-ADC3-803D37C6B03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5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5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8532-A4A0-406C-9647-17681885188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77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78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C6B3-7970-4D01-9E54-E29A9C54B4A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dt" idx="58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 type="sldNum" idx="60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07A5-714B-425B-A294-822E1390A70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6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6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8AC9-8C8E-4518-837D-D96AA09763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dt" idx="6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sldNum" idx="6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779D-89C9-4CFE-92BB-2AF5D969B2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6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6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A130-2E75-40CF-B4F8-E51560157E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7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7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D3D3-6456-4A83-8C26-9886CA21B65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7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7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9526-5D79-427F-9B3E-BB021622CD1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7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7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DB2E-7414-4324-8BB9-CBD6277644B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94F4-C775-43EF-A99C-08F8A85A05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F19A-749F-4B5B-9D36-AC8ED0C764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7EC2-CB00-4837-B0AD-C7D3510F63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4686-A9B5-40A8-B70F-F0CF87C543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7A19-1CB7-44A0-B720-DBC9995306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B202-123D-4E89-8068-FDFE67582F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1E49-776C-4970-A78A-5AF782EE8B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Урок 2. 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профессия? Выбор проф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 txBox="1"/>
          <p:nvPr/>
        </p:nvSpPr>
        <p:spPr>
          <a:xfrm>
            <a:off x="684360" y="981000"/>
            <a:ext cx="81547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Профессия (лат. </a:t>
            </a:r>
            <a:r>
              <a:rPr b="0" lang="en-US" sz="4400" spc="-1" strike="noStrike">
                <a:solidFill>
                  <a:srgbClr val="8c0039"/>
                </a:solidFill>
                <a:latin typeface="Arial"/>
              </a:rPr>
              <a:t>Professio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 род трудовой деятельности, являющийся обычно источником существования и требующий определенной квалифик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8" descr="C:\Program Files\Common Files\Microsoft Shared\Clipart\cagcat50\PE02002_.wmf"/>
          <p:cNvPicPr/>
          <p:nvPr/>
        </p:nvPicPr>
        <p:blipFill>
          <a:blip r:embed="rId1"/>
          <a:stretch/>
        </p:blipFill>
        <p:spPr>
          <a:xfrm>
            <a:off x="6659640" y="4653000"/>
            <a:ext cx="19778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4360" y="228240"/>
            <a:ext cx="8154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Профессия характеризуется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539640" y="1600200"/>
            <a:ext cx="8299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бует специальной подготовки, обуч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куется человеком регуляр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ужит источником средств к существова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1"/>
          <a:stretch/>
        </p:blipFill>
        <p:spPr>
          <a:xfrm>
            <a:off x="7497720" y="5180040"/>
            <a:ext cx="1646280" cy="16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9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ециальность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это конкретный вид деятельности в рамках какой-либо профессии. </a:t>
            </a:r>
            <a:br>
              <a:rPr sz="40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457200" y="3860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Должность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это конкретный трудовой пост в организа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пределите: профессия, специальность, должность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оляр, шахтер, летчик-испытатель, шофер, хирург, учитель, парикмахер, швея, директор магазина, судья, пианист, продавец книг, водитель троллейбуса, инженер-конструктор, врач, учитель математики, завуч, менеджер, заведующий отделением, ландшафтный дизайнер, веб-дизайнер, милиционер, психоло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6868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выборе профессии необходимо учитывать  фактор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Oval 4">
            <a:hlinkClick r:id="rId1" action="ppaction://hlinksldjump"/>
          </p:cNvPr>
          <p:cNvSpPr/>
          <p:nvPr/>
        </p:nvSpPr>
        <p:spPr>
          <a:xfrm>
            <a:off x="179280" y="1341360"/>
            <a:ext cx="2592360" cy="9144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Oval 5">
            <a:hlinkClick r:id="rId2" action="ppaction://hlinksldjump"/>
          </p:cNvPr>
          <p:cNvSpPr/>
          <p:nvPr/>
        </p:nvSpPr>
        <p:spPr>
          <a:xfrm>
            <a:off x="3203640" y="3500280"/>
            <a:ext cx="2663640" cy="9144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Oval 6">
            <a:hlinkClick r:id="rId3" action="ppaction://hlinksldjump"/>
          </p:cNvPr>
          <p:cNvSpPr/>
          <p:nvPr/>
        </p:nvSpPr>
        <p:spPr>
          <a:xfrm>
            <a:off x="6932520" y="1341360"/>
            <a:ext cx="2211480" cy="9144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Rectangle 22"/>
          <p:cNvSpPr/>
          <p:nvPr/>
        </p:nvSpPr>
        <p:spPr>
          <a:xfrm>
            <a:off x="0" y="2349360"/>
            <a:ext cx="3635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лания лич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ес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клон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Rectangle 23"/>
          <p:cNvSpPr/>
          <p:nvPr/>
        </p:nvSpPr>
        <p:spPr>
          <a:xfrm>
            <a:off x="6084720" y="2421000"/>
            <a:ext cx="30592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зможности лич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особ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ень зн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сихологическ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обенно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ояние здоров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Rectangle 24"/>
          <p:cNvSpPr/>
          <p:nvPr/>
        </p:nvSpPr>
        <p:spPr>
          <a:xfrm>
            <a:off x="2484360" y="4653000"/>
            <a:ext cx="331812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треб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ынка тр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др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9" name="Picture 25" descr="j0149481"/>
          <p:cNvPicPr/>
          <p:nvPr/>
        </p:nvPicPr>
        <p:blipFill>
          <a:blip r:embed="rId4"/>
          <a:stretch/>
        </p:blipFill>
        <p:spPr>
          <a:xfrm rot="1464600">
            <a:off x="178920" y="4292640"/>
            <a:ext cx="2160720" cy="2149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знательный выбор профессии (специальности) основывается на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ниях о мире професс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ниях о выбираемой конкретной професс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учении своих интере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учении своих способ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нии своих сильных и слабых качест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оянии своего здоровь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те материальных условий семь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те ситуации на рынке тру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шибки при выборе профессии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086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ытующие мнения о престижности професс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влечение внешней или частной стороной професс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знание мира профессий, выбор «за компанию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умение разбираться в своих способностях, личных качества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знание пути получения професс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нос отношения к человеку – представителю той или иной профессии – на отношение к самой професс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ождествление школьного учебного предмета с професси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4"/>
          <p:cNvSpPr/>
          <p:nvPr/>
        </p:nvSpPr>
        <p:spPr>
          <a:xfrm>
            <a:off x="1403280" y="1460520"/>
            <a:ext cx="676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«Если вы удачно выберите труд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вложите в него свою душу,                                                                                             то счастье само вас отыщ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бо возможность занима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              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любимым делом, —главное и непременное условие  счастья человек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. Д. Ушинск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7:36:28Z</dcterms:created>
  <dc:creator>A0001</dc:creator>
  <dc:description/>
  <dc:language>en-US</dc:language>
  <cp:lastModifiedBy>ирина</cp:lastModifiedBy>
  <dcterms:modified xsi:type="dcterms:W3CDTF">2010-12-18T09:56:58Z</dcterms:modified>
  <cp:revision>27</cp:revision>
  <dc:subject/>
  <dc:title>Секреты выбора профессии</dc:title>
</cp:coreProperties>
</file>